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A843-A0E9-42DA-93D8-94221D6B6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C567-66BF-4B12-B051-2C0FBF29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E1A8-DC4B-4506-BA93-68A05CCB6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6976-6780-4F65-A4C0-5E099D6D2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5A7F-5CF3-421C-AC4E-E40271C59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E3BF-A1A0-416F-BABB-01FF553E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BF6E-AFEF-40ED-AA9E-A784C5AE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8119-C159-42A6-B756-751B5554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20C6-C82E-459D-AD13-41C206F5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C2C5-B0ED-4DB9-A2BF-5C539C3C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5796-8708-4F9F-BC75-0B6096D2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7379-8B62-44AC-BC73-73DAF838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903C-6456-4B63-8751-A7425C83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9F71-D436-4923-8AA4-64B7D62F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B631-1EA2-429B-9979-4E591457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33D4-7ACA-489B-935E-8F87A2EC2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BFCE-4194-44E2-9B2F-D9B6F568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6987-2FE7-40D1-99D3-3CA2306E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41D2-F255-4C20-9AF2-1FFC4AE5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79B8-127E-4FA7-AA15-7969474E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E6BA-26E6-43A2-A20B-BDB919FD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EC48-BC1D-4F58-9CBF-D0B369B1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4241-0BAF-47CB-AE31-37AD4F2C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D2E9-9B47-4836-8D81-ADD1D4B4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03B9-817E-4943-9A3C-854284E937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5F79-82C4-4B92-A703-AE43275F1F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docdingley.com/links/images/sports/Badminton_Extreme.jpg&amp;imgrefurl=http://www.docdingley.com/links/Sports.htm&amp;usg=__B0JPieGConJyhR1LNo2gAMKCPfU=&amp;h=430&amp;w=290&amp;sz=30&amp;hl=en&amp;start=2&amp;tbnid=5YpW2oCr62DZmM:&amp;tbnh=126&amp;tbnw=85&amp;prev=/images%3Fq%3Dbadminton%26gbv%3D2%26hl%3De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.uk/imgres?imgurl=http://www.u.arizona.edu/~joellec/images/badminton.jpg&amp;imgrefurl=http://www.u.arizona.edu/~joellec/&amp;usg=__G8t3REBfFeHiiVU8Fp_e2MzSvmU=&amp;h=329&amp;w=264&amp;sz=14&amp;hl=en&amp;start=22&amp;tbnid=3626-WWT3UTcgM:&amp;tbnh=119&amp;tbnw=95&amp;prev=/images%3Fq%3Dbadminton%26gbv%3D2%26ndsp%3D20%26hl%3Den%26sa%3DN%26start%3D20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omic Sans MS"/>
              </a:rPr>
              <a:t>Skills and Techniqu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iss Doo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3500280"/>
            <a:ext cx="2484360" cy="3357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284640"/>
            <a:ext cx="29163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Learning outco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y the end of the lesson you shoul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Know the different methods of gathering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ow to describe these meth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y these methods are appropri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hat a model performer 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he benefits of using a model perform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Wiki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– int2-pe.wikispace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ss Doogan Classroom less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Learning outco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y the end of the lesson you shoul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Know the different methods of gathering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ow to describe these meth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y these methods are appropri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hat a model performer 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he benefits of using a model perform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Model perform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urn to pg 8 in your work bookl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sing the information about model performers design a mindmap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) a model performer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i) advantages of using a model perfor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Learning skil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lls can be broken down into 3 pha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describing a skill in badminton you should always be able to describe them using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paration, actio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ov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Comic Sans MS"/>
              </a:rPr>
              <a:t>Methods of gathering inform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o improve your skill level in an activity you must first analyses your performance to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dentify strengths and weaknesses.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hen you can start working to improve your performance. We can do this us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1) Using observation sched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) videoing your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) knowledge of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bservation Schedu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nsideration of Quality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look at your whole performa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Movement Analysis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look at one specific ski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bservation schedules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sed to record information about your perform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sually completed by a partner who is watching pl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ideoing Perform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You get to visualise your own perform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You can also view a performance repeated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You can use slow motion to make a more detailed technique analys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You could use a video of your performance to complete your own observation sched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Knowledge Of Resul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catter Gra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Knowledge of results sched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ook at the outcome of a skill (e.g. percentage succes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ook at where your shot w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se can also identify strengths and weaknesses of the sk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liability Of Inform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Validity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d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el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py into your jotter the table on pg 13 of the work bookl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4:15:56Z</dcterms:created>
  <dc:creator>DooganS</dc:creator>
  <dc:description/>
  <dc:language>en-US</dc:language>
  <cp:lastModifiedBy>DooganS</cp:lastModifiedBy>
  <dcterms:modified xsi:type="dcterms:W3CDTF">2009-11-02T18:10:53Z</dcterms:modified>
  <cp:revision>3</cp:revision>
  <dc:subject/>
  <dc:title>Skills and Techniques</dc:title>
</cp:coreProperties>
</file>